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9B709-97B5-4E97-8CC0-5C311BEA0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nq_if_i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s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elt_inq_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ep_un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ynamic endpoint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set_authorization_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stop_server_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create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id_is_n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binding_server_from_cli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s_server_listening (local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top_server_listening (local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ce_error_inq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10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_mgmt_inq_if_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nq_server_principal_name (not complete - 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security mtg w/DEC 7/15 &amp; 7/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is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elt_inq_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ep_un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et_cancel_timeout (not complete - pending NT thread support of can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ynamic endpoint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August 15 deliver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binding_server_from_client  (not complete - we will get this to you before Aug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et_authorization_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mgmt_stop_server_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create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uuid_is_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Low Priority (by Feb 1994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Incremental xmit/recv and fault packet ==&gt; not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Buffer alignment ==&gt; This is in the NT 1.0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Work no longer required by DEC, which we've included anyway since it was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dce_error_inq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MIDL_user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MIDL_user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client_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disable_all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get_thread_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 rpc_ss_register_auth_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se features should be in Windows NT 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92280" y="6367320"/>
            <a:ext cx="8043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07880" y="6278400"/>
            <a:ext cx="8481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and DC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086600" y="1200240"/>
            <a:ext cx="457560" cy="2053080"/>
          </a:xfrm>
          <a:custGeom>
            <a:avLst/>
            <a:gdLst/>
            <a:ahLst/>
            <a:rect l="0" t="0" r="r" b="b"/>
            <a:pathLst>
              <a:path w="1271" h="5703">
                <a:moveTo>
                  <a:pt x="0" y="422"/>
                </a:moveTo>
                <a:lnTo>
                  <a:pt x="1271" y="0"/>
                </a:lnTo>
                <a:lnTo>
                  <a:pt x="1271" y="4436"/>
                </a:lnTo>
                <a:lnTo>
                  <a:pt x="0" y="5703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3232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3657600"/>
            <a:ext cx="457560" cy="2210040"/>
          </a:xfrm>
          <a:custGeom>
            <a:avLst/>
            <a:gdLst/>
            <a:ahLst/>
            <a:rect l="0" t="0" r="r" b="b"/>
            <a:pathLst>
              <a:path w="1271" h="6139">
                <a:moveTo>
                  <a:pt x="0" y="1693"/>
                </a:moveTo>
                <a:lnTo>
                  <a:pt x="1271" y="0"/>
                </a:lnTo>
                <a:lnTo>
                  <a:pt x="1271" y="3811"/>
                </a:lnTo>
                <a:lnTo>
                  <a:pt x="0" y="6139"/>
                </a:lnTo>
                <a:lnTo>
                  <a:pt x="0" y="16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52480" y="4267080"/>
            <a:ext cx="5334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orah Bl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190600"/>
            <a:ext cx="266688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190600"/>
            <a:ext cx="2819880" cy="1067040"/>
          </a:xfrm>
          <a:custGeom>
            <a:avLst/>
            <a:gdLst/>
            <a:ahLst/>
            <a:rect l="0" t="0" r="r" b="b"/>
            <a:pathLst>
              <a:path w="7833" h="2964">
                <a:moveTo>
                  <a:pt x="0" y="0"/>
                </a:moveTo>
                <a:lnTo>
                  <a:pt x="0" y="2964"/>
                </a:lnTo>
                <a:lnTo>
                  <a:pt x="7410" y="2964"/>
                </a:lnTo>
                <a:lnTo>
                  <a:pt x="7410" y="1906"/>
                </a:lnTo>
                <a:lnTo>
                  <a:pt x="7833" y="2329"/>
                </a:lnTo>
                <a:lnTo>
                  <a:pt x="7833" y="635"/>
                </a:lnTo>
                <a:lnTo>
                  <a:pt x="7410" y="846"/>
                </a:lnTo>
                <a:lnTo>
                  <a:pt x="741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352520"/>
            <a:ext cx="5334480" cy="1067040"/>
          </a:xfrm>
          <a:custGeom>
            <a:avLst/>
            <a:gdLst/>
            <a:ahLst/>
            <a:rect l="0" t="0" r="r" b="b"/>
            <a:pathLst>
              <a:path w="14818" h="2964">
                <a:moveTo>
                  <a:pt x="0" y="0"/>
                </a:moveTo>
                <a:lnTo>
                  <a:pt x="0" y="2373"/>
                </a:lnTo>
                <a:lnTo>
                  <a:pt x="2751" y="2373"/>
                </a:lnTo>
                <a:lnTo>
                  <a:pt x="2328" y="2964"/>
                </a:lnTo>
                <a:lnTo>
                  <a:pt x="4657" y="2964"/>
                </a:lnTo>
                <a:lnTo>
                  <a:pt x="4234" y="2373"/>
                </a:lnTo>
                <a:lnTo>
                  <a:pt x="10584" y="2373"/>
                </a:lnTo>
                <a:lnTo>
                  <a:pt x="10161" y="2964"/>
                </a:lnTo>
                <a:lnTo>
                  <a:pt x="12702" y="2964"/>
                </a:lnTo>
                <a:lnTo>
                  <a:pt x="12278" y="2373"/>
                </a:lnTo>
                <a:lnTo>
                  <a:pt x="14818" y="2373"/>
                </a:lnTo>
                <a:lnTo>
                  <a:pt x="148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200240"/>
            <a:ext cx="5791680" cy="152640"/>
          </a:xfrm>
          <a:custGeom>
            <a:avLst/>
            <a:gdLst/>
            <a:ahLst/>
            <a:rect l="0" t="0" r="r" b="b"/>
            <a:pathLst>
              <a:path w="16088" h="424">
                <a:moveTo>
                  <a:pt x="0" y="424"/>
                </a:moveTo>
                <a:lnTo>
                  <a:pt x="3809" y="0"/>
                </a:lnTo>
                <a:lnTo>
                  <a:pt x="16088" y="0"/>
                </a:lnTo>
                <a:lnTo>
                  <a:pt x="14818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657600"/>
            <a:ext cx="5791680" cy="609840"/>
          </a:xfrm>
          <a:custGeom>
            <a:avLst/>
            <a:gdLst/>
            <a:ahLst/>
            <a:rect l="0" t="0" r="r" b="b"/>
            <a:pathLst>
              <a:path w="16088" h="1694">
                <a:moveTo>
                  <a:pt x="0" y="1694"/>
                </a:moveTo>
                <a:lnTo>
                  <a:pt x="3743" y="0"/>
                </a:lnTo>
                <a:lnTo>
                  <a:pt x="16088" y="0"/>
                </a:lnTo>
                <a:lnTo>
                  <a:pt x="14818" y="1694"/>
                </a:lnTo>
                <a:lnTo>
                  <a:pt x="0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8200" y="3776760"/>
            <a:ext cx="1149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04960" y="3438360"/>
            <a:ext cx="115236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8200" y="3352680"/>
            <a:ext cx="114948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496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76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080" y="3776760"/>
            <a:ext cx="11415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43836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9080" y="3352680"/>
            <a:ext cx="11415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46560" y="3781440"/>
            <a:ext cx="11397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3320" y="344340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6560" y="3357720"/>
            <a:ext cx="11397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43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86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59280" y="1365120"/>
            <a:ext cx="2722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65280" y="2432160"/>
            <a:ext cx="1166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56200" y="2508120"/>
            <a:ext cx="1471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0968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Future Interoper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2114640"/>
            <a:ext cx="716580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access between Cairo &amp; DCE nam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S servers as Cairo time source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authentication of DCE and NT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86600" y="1200240"/>
            <a:ext cx="457560" cy="2053080"/>
          </a:xfrm>
          <a:custGeom>
            <a:avLst/>
            <a:gdLst/>
            <a:ahLst/>
            <a:rect l="0" t="0" r="r" b="b"/>
            <a:pathLst>
              <a:path w="1271" h="5703">
                <a:moveTo>
                  <a:pt x="0" y="422"/>
                </a:moveTo>
                <a:lnTo>
                  <a:pt x="1271" y="0"/>
                </a:lnTo>
                <a:lnTo>
                  <a:pt x="1271" y="4436"/>
                </a:lnTo>
                <a:lnTo>
                  <a:pt x="0" y="5703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3232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657600"/>
            <a:ext cx="457560" cy="2210040"/>
          </a:xfrm>
          <a:custGeom>
            <a:avLst/>
            <a:gdLst/>
            <a:ahLst/>
            <a:rect l="0" t="0" r="r" b="b"/>
            <a:pathLst>
              <a:path w="1271" h="6139">
                <a:moveTo>
                  <a:pt x="0" y="1693"/>
                </a:moveTo>
                <a:lnTo>
                  <a:pt x="1271" y="0"/>
                </a:lnTo>
                <a:lnTo>
                  <a:pt x="1271" y="3811"/>
                </a:lnTo>
                <a:lnTo>
                  <a:pt x="0" y="6139"/>
                </a:lnTo>
                <a:lnTo>
                  <a:pt x="0" y="16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52480" y="4267080"/>
            <a:ext cx="5334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190600"/>
            <a:ext cx="266688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190600"/>
            <a:ext cx="2819880" cy="1067040"/>
          </a:xfrm>
          <a:custGeom>
            <a:avLst/>
            <a:gdLst/>
            <a:ahLst/>
            <a:rect l="0" t="0" r="r" b="b"/>
            <a:pathLst>
              <a:path w="7833" h="2964">
                <a:moveTo>
                  <a:pt x="0" y="0"/>
                </a:moveTo>
                <a:lnTo>
                  <a:pt x="0" y="2964"/>
                </a:lnTo>
                <a:lnTo>
                  <a:pt x="7410" y="2964"/>
                </a:lnTo>
                <a:lnTo>
                  <a:pt x="7410" y="1906"/>
                </a:lnTo>
                <a:lnTo>
                  <a:pt x="7833" y="2329"/>
                </a:lnTo>
                <a:lnTo>
                  <a:pt x="7833" y="635"/>
                </a:lnTo>
                <a:lnTo>
                  <a:pt x="7410" y="846"/>
                </a:lnTo>
                <a:lnTo>
                  <a:pt x="741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352520"/>
            <a:ext cx="5334480" cy="1067040"/>
          </a:xfrm>
          <a:custGeom>
            <a:avLst/>
            <a:gdLst/>
            <a:ahLst/>
            <a:rect l="0" t="0" r="r" b="b"/>
            <a:pathLst>
              <a:path w="14818" h="2964">
                <a:moveTo>
                  <a:pt x="0" y="0"/>
                </a:moveTo>
                <a:lnTo>
                  <a:pt x="0" y="2373"/>
                </a:lnTo>
                <a:lnTo>
                  <a:pt x="2751" y="2373"/>
                </a:lnTo>
                <a:lnTo>
                  <a:pt x="2328" y="2964"/>
                </a:lnTo>
                <a:lnTo>
                  <a:pt x="4657" y="2964"/>
                </a:lnTo>
                <a:lnTo>
                  <a:pt x="4234" y="2373"/>
                </a:lnTo>
                <a:lnTo>
                  <a:pt x="10584" y="2373"/>
                </a:lnTo>
                <a:lnTo>
                  <a:pt x="10161" y="2964"/>
                </a:lnTo>
                <a:lnTo>
                  <a:pt x="12702" y="2964"/>
                </a:lnTo>
                <a:lnTo>
                  <a:pt x="12278" y="2373"/>
                </a:lnTo>
                <a:lnTo>
                  <a:pt x="14818" y="2373"/>
                </a:lnTo>
                <a:lnTo>
                  <a:pt x="148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200240"/>
            <a:ext cx="5791680" cy="152640"/>
          </a:xfrm>
          <a:custGeom>
            <a:avLst/>
            <a:gdLst/>
            <a:ahLst/>
            <a:rect l="0" t="0" r="r" b="b"/>
            <a:pathLst>
              <a:path w="16088" h="424">
                <a:moveTo>
                  <a:pt x="0" y="424"/>
                </a:moveTo>
                <a:lnTo>
                  <a:pt x="3809" y="0"/>
                </a:lnTo>
                <a:lnTo>
                  <a:pt x="16088" y="0"/>
                </a:lnTo>
                <a:lnTo>
                  <a:pt x="14818" y="42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657600"/>
            <a:ext cx="5791680" cy="609840"/>
          </a:xfrm>
          <a:custGeom>
            <a:avLst/>
            <a:gdLst/>
            <a:ahLst/>
            <a:rect l="0" t="0" r="r" b="b"/>
            <a:pathLst>
              <a:path w="16088" h="1694">
                <a:moveTo>
                  <a:pt x="0" y="1694"/>
                </a:moveTo>
                <a:lnTo>
                  <a:pt x="3743" y="0"/>
                </a:lnTo>
                <a:lnTo>
                  <a:pt x="16088" y="0"/>
                </a:lnTo>
                <a:lnTo>
                  <a:pt x="14818" y="1694"/>
                </a:lnTo>
                <a:lnTo>
                  <a:pt x="0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08200" y="3776760"/>
            <a:ext cx="114948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04960" y="3438360"/>
            <a:ext cx="115236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8200" y="3352680"/>
            <a:ext cx="114948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496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576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9080" y="3776760"/>
            <a:ext cx="11415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43836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9080" y="3352680"/>
            <a:ext cx="11415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50676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46560" y="3781440"/>
            <a:ext cx="1139760" cy="33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43320" y="3443400"/>
            <a:ext cx="11430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46560" y="3357720"/>
            <a:ext cx="1139760" cy="30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43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6320" y="35114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59280" y="1365120"/>
            <a:ext cx="2722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65280" y="2432160"/>
            <a:ext cx="1166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56200" y="2508120"/>
            <a:ext cx="1471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34452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3.1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680" y="1276200"/>
            <a:ext cx="71658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NT3.1 system compon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on all MS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trans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57312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2114640"/>
            <a:ext cx="7165800" cy="24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Software Developer’s Kit (SD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and 32-bit ID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bit runtimes w/ distribution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RPC Features No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in NT3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211464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protoc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 integer, full poi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*  AP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sm_* 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374760"/>
            <a:ext cx="8174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MS RPC Interoperat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CE RP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114640"/>
            <a:ext cx="71658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F DCE RPC VTS ported to 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bugs in connection-oriented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6320" indent="-4190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3.11 will pass with flying colo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4444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3.1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upported DCE RPC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211464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binding_server_from_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ep_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dflt_protect_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if_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inq_server_princ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set_authorization_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mgmt_set_cancel_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61960" y="396720"/>
            <a:ext cx="8174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3.1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upported DCE RPC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43000" y="2190600"/>
            <a:ext cx="716580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_error_inq_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_sm_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com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create_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d_is_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49680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Source Code Portab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8860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focus is interoperability, not source code por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ird pa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 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secure core client product for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420840"/>
            <a:ext cx="8174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3.11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657440"/>
            <a:ext cx="71658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5480" indent="-555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Symbo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eatures plann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 protocol sup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DCE RPC A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 integer, full poi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4190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80000"/>
              <a:buFont typeface="Wingdings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interpreted marsha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